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13.wmf" ContentType="image/x-wmf"/>
  <Override PartName="/ppt/media/image8.jpeg" ContentType="image/jpe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AFFDD88-08E0-466D-AEA7-6BBA98E4F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lcome and introductions – name, position, board 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andout is for the participants for their personal use.  We mentio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2 handouts deal with formative assessment for teachers of individual work.  We do not discuss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nts use BLM 4.2.2  Observation Recording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lso just a handout for teacher use in their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lso a handout for teachers for their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utes for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p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and scale of axes (numbering months vs. naming them, where to put January, degrees as the dependent variable in a trig grap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vs. discret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all periodic graphs sinusoid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averag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curricular links to explain observed results (effect of latitude, elevation, coastal c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25 minutes – do you think this is enough?  Also, rather than have them write all the BI and expectations, lets have them code it someway to make it f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16C80-983A-4CC8-805F-9EE9462C03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nsolidate – 3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0E6DE-6431-42DB-B05C-3BB190499D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EA6C-27BC-4349-8F17-C6FA7E38B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5678-5C54-412D-A681-EBE67C9B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9DD0-DFB7-4534-9D0E-238840B42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DEC0-C515-44A2-988F-6D77E0E5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A641-CD20-47A3-8902-4D10C105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D2C6-46D3-4056-9753-DA63D0E3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F5FF-0918-40CC-AC91-5FB11027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CA7E-B6E9-4CD7-9FA9-E0AA6C52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6801-F813-43E6-B285-E5BAA474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83FF-3227-40DC-A8DE-EE587828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F89C-0799-48E1-9378-BE0463E9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A1C8-D102-49FD-83B6-B23099FF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830F-D9E9-4F0F-B2DA-FC9656C3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CF41-8DDE-4018-84CD-19D3A8C0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1C58-52DD-4D8C-BD2D-5D4D6EE5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6F59-D93A-403A-9139-2D976025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30B8-A16A-4C37-BC87-BCD59D5DF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7AE2-7068-4CC1-92C0-122B5B86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38C2-7FD2-4382-8012-2B043BB0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1C9B-AB4F-4092-B0A4-3001D0F8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D98E-0BF7-457B-A3C5-F319851B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D2B0-F94B-4CF5-9764-6E25EA5C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366B-9A49-41B4-82DE-8173F52B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C4C5-441D-4056-BFAA-D90F84DD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C187-AFF1-4D6A-B0D4-295AA8CCB190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4374-D61A-4EBA-A087-46A0C68DC82B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421F-C3A3-48E0-9E1D-B4EC21AECFBF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00296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d469b"/>
                </a:solidFill>
                <a:latin typeface="Arial"/>
              </a:rPr>
              <a:t>Quadratic and Trigonometric Relations</a:t>
            </a:r>
            <a:br>
              <a:rPr sz="4000"/>
            </a:br>
            <a:br>
              <a:rPr sz="4000"/>
            </a:br>
            <a:r>
              <a:rPr b="1" i="1" lang="en-US" sz="3600" spc="-1" strike="noStrike">
                <a:solidFill>
                  <a:srgbClr val="0d469b"/>
                </a:solidFill>
                <a:latin typeface="Arial"/>
              </a:rPr>
              <a:t>Sessions 6 and 7</a:t>
            </a:r>
            <a:br>
              <a:rPr sz="3600"/>
            </a:b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68400" y="440496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b78c"/>
                </a:solidFill>
                <a:latin typeface="Arial"/>
              </a:rPr>
              <a:t>Summer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b78c"/>
                </a:solidFill>
                <a:latin typeface="Arial"/>
              </a:rPr>
              <a:t>Augus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John Rod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Think-Pair-Shar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big idea does this activity elic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up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In the Spotlight!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up Share:  Questions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does the scaffolding in BLM 4.1 support students in engaging in higher-ordered thinking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y bother doing this type of activity anyway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69b"/>
                </a:solidFill>
                <a:latin typeface="Arial"/>
              </a:rPr>
              <a:t>Action:  World Climate Task – Individual Work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 unique city in the world.  Mark your city on the globe using plastic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ww.worldclimate.c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retrieve the 24-hour average temperature for the city you sel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materials provided, describe and analyze the periodic relationship.  Record your representation(s) and analysis on chart paper for sha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19640" y="6165720"/>
            <a:ext cx="25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Climate Task – Assessme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Criteria: Individual Work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25400" y="2214720"/>
            <a:ext cx="769464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World Climate Task – Observation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1560" y="2395440"/>
            <a:ext cx="794232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69b"/>
                </a:solidFill>
                <a:latin typeface="Arial"/>
              </a:rPr>
              <a:t>Action:  World Climate Task – Pairs Work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partner, compare and contrast your two periodic relationships.  Identify the similarities and differences, and explain why these ex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Climate Task – Assessme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Criteria:  Pairs Work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93720" y="2352600"/>
            <a:ext cx="769464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orld Climate Task – Observation</a:t>
            </a:r>
            <a:endParaRPr b="0" lang="en-US" sz="38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95440" y="2467080"/>
            <a:ext cx="795492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69b"/>
                </a:solidFill>
                <a:latin typeface="Arial"/>
              </a:rPr>
              <a:t>Action:  World Climate Task – Poster Wall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your graph and 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lery walk with your partner; compare and contrast your graphs with those of your colleag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World Climate Tas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solidation:  Questions to consid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if the city was located in ________ part of the world, what would the graph look like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would be the minimum amount of information that you would need to sketch a trigonometric model for a city in the world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Learning Goals: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Verdana"/>
              </a:rPr>
              <a:t>Practice posing parallel and open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Verdana"/>
              </a:rPr>
              <a:t>Explore real world phenomenon that is periodic in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Verdana"/>
              </a:rPr>
              <a:t>Deepen understanding of the Big Ideas, lesson goals and student strug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World Climate Tas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dditional questions might you po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ecisions might you make to support students who are strugg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nsolidate: Pair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cuss a possible learning goal that aligns with this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it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3256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TIME FOR A BREAK – TAKE 15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048360" y="3573360"/>
            <a:ext cx="19526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Pair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your poster wall partner, create a different learning goal for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orld Climate Tas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ossible student misconceptions and strategies for reme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a different expec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a different Big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Change it up - 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dditions/changes would you make to the activity to support the achievement of this new learning go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Group Shar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Consolidation:  How do you know?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one or more open consolidation questions that will tell you what the student kn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Mathematic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Idea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Goal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Mathematic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urther Consolida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ased on the Summer Institute, reflect on the following questions focusing on the prompts that are most meaningful to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iven what I have learned today, what ideas are challenging my belief about teaching trigonometric functions?  Why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new learning do I believe has helped me shift my practice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new ideas that I am prepared to implement upon my return to the classroom / board are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281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d469b"/>
                </a:solidFill>
                <a:latin typeface="Arial"/>
              </a:rPr>
              <a:t>Thank you!</a:t>
            </a:r>
            <a:br>
              <a:rPr sz="8400"/>
            </a:b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lease visit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for all files from the Summer Institute!</a:t>
            </a:r>
            <a:br>
              <a:rPr sz="3600"/>
            </a:br>
            <a:br>
              <a:rPr sz="1200"/>
            </a:b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0240" y="2841480"/>
            <a:ext cx="5940360" cy="1876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279520" y="3328920"/>
            <a:ext cx="6670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ff"/>
                </a:solidFill>
                <a:latin typeface="Times New Roman"/>
              </a:rPr>
              <a:t>http://gains-camppp.wikispaces.com/SUMMER+INSTIT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 – Create a Parallel Task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1844640"/>
            <a:ext cx="77770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773360"/>
            <a:ext cx="87487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  <a:ea typeface="Arial"/>
              </a:rPr>
              <a:t>Select a big idea and an overall expectation from either a quadratic relations strand or a trig. functions str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  <a:ea typeface="Arial"/>
              </a:rPr>
              <a:t>Consider the potential struggles that students might encounter with this big idea or expecta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Verdana"/>
                <a:ea typeface="Arial"/>
              </a:rPr>
              <a:t>Create a lesson goal and an appropriate parallel task that addresses that expec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2490d8"/>
                </a:solidFill>
                <a:latin typeface="Arial"/>
              </a:rPr>
              <a:t>Consolidate</a:t>
            </a: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 – Revisiting ll Task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Join with another 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Exchange parallel tasks for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rite suggestions on sticky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Consolidate / Debrief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528948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33399"/>
                </a:solidFill>
                <a:latin typeface="Verdana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86540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Minds On:  In the Spotlight!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class of function do you think this graph repres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5805360"/>
            <a:ext cx="2592360" cy="459720"/>
          </a:xfrm>
          <a:prstGeom prst="rect">
            <a:avLst/>
          </a:prstGeom>
          <a:solidFill>
            <a:srgbClr val="3366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the Spotlight!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15960" y="3753000"/>
            <a:ext cx="14716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Minds On:  In the Spotlight!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d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5805360"/>
            <a:ext cx="2592360" cy="459720"/>
          </a:xfrm>
          <a:prstGeom prst="rect">
            <a:avLst/>
          </a:prstGeom>
          <a:solidFill>
            <a:srgbClr val="3366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the Spotlight!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98640" y="3249720"/>
            <a:ext cx="23860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Minds On:  In the Spotlight!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d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5805360"/>
            <a:ext cx="2592360" cy="459720"/>
          </a:xfrm>
          <a:prstGeom prst="rect">
            <a:avLst/>
          </a:prstGeom>
          <a:solidFill>
            <a:srgbClr val="3366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the Spotlight!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03280" y="3392640"/>
            <a:ext cx="317196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Minds On:  In the Spotlight!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al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5805360"/>
            <a:ext cx="2592360" cy="459720"/>
          </a:xfrm>
          <a:prstGeom prst="rect">
            <a:avLst/>
          </a:prstGeom>
          <a:solidFill>
            <a:srgbClr val="3366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the Spotlight!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8360" y="3281400"/>
            <a:ext cx="509112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Peel District School Board</cp:lastModifiedBy>
  <dcterms:modified xsi:type="dcterms:W3CDTF">2009-08-27T11:58:34Z</dcterms:modified>
  <cp:revision>126</cp:revision>
  <dc:subject/>
  <dc:title>Math GAINS 2008-09</dc:title>
</cp:coreProperties>
</file>